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964-5B74-4EA5-B3D0-FC788F2EC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F2AA-2EF8-4FE1-AC79-114372BA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9C5-2C31-451A-9EF7-06538963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9196-790C-4E8B-A807-B833D943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09F-1B13-43C0-BD95-FE6FD610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4E2D-2B34-4E8D-8FA8-7E428BB5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0850-0C92-4F32-AFB9-7D20B5FD0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8E6F-768A-4A86-859F-D1DDC91CA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571-E04D-4EA9-9B12-CFCDAB2C9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2F81-CA8A-4BFA-A616-F9238113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E24-D2E6-4A03-812E-BB760B7E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3E0-7383-4874-A31B-D32EB07E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172-951A-47D3-B9A3-B74064AE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07F-2879-461B-BDFC-7B05DDA1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00D-37FB-4A43-8A94-F152ED66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8F4-9132-4119-844D-1438A03C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290-48AA-4CB7-A4A7-136408F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E21-3875-42BB-B2F6-E589A33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C09-559C-4357-99D4-BA48DCE6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F2-D010-43C6-BA37-99B0A22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D2E-B77F-446A-A4D3-200C36F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3F3-D374-432E-A16F-8177ADF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8F7-1FAA-4E04-974E-646BD4566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ould happe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5640" y="60195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you charged a capacitor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52480" y="6172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disconnected the battery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3809880" y="489420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876560" y="3505320"/>
            <a:ext cx="2819160" cy="1980720"/>
            <a:chOff x="4876560" y="3505320"/>
            <a:chExt cx="2819160" cy="1980720"/>
          </a:xfrm>
        </p:grpSpPr>
        <p:sp>
          <p:nvSpPr>
            <p:cNvPr id="58" name="Rectangle 5"/>
            <p:cNvSpPr/>
            <p:nvPr/>
          </p:nvSpPr>
          <p:spPr>
            <a:xfrm>
              <a:off x="5562360" y="3505320"/>
              <a:ext cx="2133360" cy="2282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 flipH="1">
              <a:off x="4876200" y="5333760"/>
              <a:ext cx="182844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 flipH="1">
              <a:off x="6553080" y="3733560"/>
              <a:ext cx="151920" cy="15998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8"/>
          <p:cNvGrpSpPr/>
          <p:nvPr/>
        </p:nvGrpSpPr>
        <p:grpSpPr>
          <a:xfrm>
            <a:off x="4723920" y="1371600"/>
            <a:ext cx="2972160" cy="2057400"/>
            <a:chOff x="4723920" y="1371600"/>
            <a:chExt cx="2972160" cy="2057400"/>
          </a:xfrm>
        </p:grpSpPr>
        <p:sp>
          <p:nvSpPr>
            <p:cNvPr id="62" name="Rectangle 9"/>
            <p:cNvSpPr/>
            <p:nvPr/>
          </p:nvSpPr>
          <p:spPr>
            <a:xfrm>
              <a:off x="5562360" y="3200400"/>
              <a:ext cx="2133720" cy="22860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 flipH="1">
              <a:off x="6552360" y="1523880"/>
              <a:ext cx="152280" cy="167652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H="1">
              <a:off x="4723560" y="1371600"/>
              <a:ext cx="198108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5410080" y="2819520"/>
            <a:ext cx="2666880" cy="1297800"/>
            <a:chOff x="5410080" y="2819520"/>
            <a:chExt cx="2666880" cy="1297800"/>
          </a:xfrm>
        </p:grpSpPr>
        <p:sp>
          <p:nvSpPr>
            <p:cNvPr id="66" name="Text Box 13"/>
            <p:cNvSpPr/>
            <p:nvPr/>
          </p:nvSpPr>
          <p:spPr>
            <a:xfrm>
              <a:off x="5410080" y="281952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495760" y="365760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 -  -  -     - -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16"/>
          <p:cNvSpPr/>
          <p:nvPr/>
        </p:nvSpPr>
        <p:spPr>
          <a:xfrm flipV="1">
            <a:off x="1219320" y="380988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 flipV="1">
            <a:off x="685800" y="4114080"/>
            <a:ext cx="144792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 flipV="1">
            <a:off x="1219320" y="2570040"/>
            <a:ext cx="3808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"/>
          <p:cNvSpPr/>
          <p:nvPr/>
        </p:nvSpPr>
        <p:spPr>
          <a:xfrm flipV="1">
            <a:off x="685800" y="287424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0"/>
          <p:cNvGrpSpPr/>
          <p:nvPr/>
        </p:nvGrpSpPr>
        <p:grpSpPr>
          <a:xfrm>
            <a:off x="685800" y="3200400"/>
            <a:ext cx="1447920" cy="457200"/>
            <a:chOff x="685800" y="3200400"/>
            <a:chExt cx="1447920" cy="457200"/>
          </a:xfrm>
        </p:grpSpPr>
        <p:sp>
          <p:nvSpPr>
            <p:cNvPr id="73" name="Rectangle 21"/>
            <p:cNvSpPr/>
            <p:nvPr/>
          </p:nvSpPr>
          <p:spPr>
            <a:xfrm flipV="1">
              <a:off x="1219320" y="320004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 flipV="1">
              <a:off x="685800" y="350496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23"/>
          <p:cNvSpPr/>
          <p:nvPr/>
        </p:nvSpPr>
        <p:spPr>
          <a:xfrm flipV="1">
            <a:off x="1371600" y="42670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4"/>
          <p:cNvSpPr/>
          <p:nvPr/>
        </p:nvSpPr>
        <p:spPr>
          <a:xfrm flipV="1">
            <a:off x="1371600" y="53334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5"/>
          <p:cNvSpPr/>
          <p:nvPr/>
        </p:nvSpPr>
        <p:spPr>
          <a:xfrm flipV="1">
            <a:off x="1371600" y="1370520"/>
            <a:ext cx="182880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6"/>
          <p:cNvSpPr/>
          <p:nvPr/>
        </p:nvSpPr>
        <p:spPr>
          <a:xfrm flipV="1">
            <a:off x="1371600" y="15238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7"/>
          <p:cNvSpPr/>
          <p:nvPr/>
        </p:nvSpPr>
        <p:spPr>
          <a:xfrm>
            <a:off x="3660840" y="938160"/>
            <a:ext cx="10666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1676520" y="5867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flipped the battery over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1682640" y="6400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and reconnected the reversed batt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1"/>
          <p:cNvGrpSpPr/>
          <p:nvPr/>
        </p:nvGrpSpPr>
        <p:grpSpPr>
          <a:xfrm>
            <a:off x="1295280" y="321840"/>
            <a:ext cx="6781680" cy="6128280"/>
            <a:chOff x="1295280" y="321840"/>
            <a:chExt cx="6781680" cy="6128280"/>
          </a:xfrm>
        </p:grpSpPr>
        <p:grpSp>
          <p:nvGrpSpPr>
            <p:cNvPr id="83" name="Group 3"/>
            <p:cNvGrpSpPr/>
            <p:nvPr/>
          </p:nvGrpSpPr>
          <p:grpSpPr>
            <a:xfrm>
              <a:off x="4876560" y="3481560"/>
              <a:ext cx="2819160" cy="1980720"/>
              <a:chOff x="4876560" y="3481560"/>
              <a:chExt cx="2819160" cy="198072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5562360" y="3481560"/>
                <a:ext cx="2133360" cy="2282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5"/>
              <p:cNvSpPr/>
              <p:nvPr/>
            </p:nvSpPr>
            <p:spPr>
              <a:xfrm flipH="1">
                <a:off x="4876200" y="5310000"/>
                <a:ext cx="1828440" cy="15228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 flipH="1">
                <a:off x="6553080" y="3709800"/>
                <a:ext cx="151920" cy="15998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7"/>
            <p:cNvGrpSpPr/>
            <p:nvPr/>
          </p:nvGrpSpPr>
          <p:grpSpPr>
            <a:xfrm>
              <a:off x="4723920" y="1347840"/>
              <a:ext cx="2972160" cy="2057400"/>
              <a:chOff x="4723920" y="1347840"/>
              <a:chExt cx="2972160" cy="20574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5562360" y="3176640"/>
                <a:ext cx="2133720" cy="22860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9"/>
              <p:cNvSpPr/>
              <p:nvPr/>
            </p:nvSpPr>
            <p:spPr>
              <a:xfrm flipH="1">
                <a:off x="6552360" y="1500120"/>
                <a:ext cx="152280" cy="167652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"/>
              <p:cNvSpPr/>
              <p:nvPr/>
            </p:nvSpPr>
            <p:spPr>
              <a:xfrm flipH="1">
                <a:off x="4723560" y="1347840"/>
                <a:ext cx="198108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1"/>
            <p:cNvGrpSpPr/>
            <p:nvPr/>
          </p:nvGrpSpPr>
          <p:grpSpPr>
            <a:xfrm>
              <a:off x="5410080" y="2795760"/>
              <a:ext cx="2666880" cy="1297800"/>
              <a:chOff x="5410080" y="2795760"/>
              <a:chExt cx="2666880" cy="1297800"/>
            </a:xfrm>
          </p:grpSpPr>
          <p:sp>
            <p:nvSpPr>
              <p:cNvPr id="92" name="Text Box 12"/>
              <p:cNvSpPr/>
              <p:nvPr/>
            </p:nvSpPr>
            <p:spPr>
              <a:xfrm>
                <a:off x="5410080" y="279576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+ + +     + + +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13"/>
              <p:cNvSpPr/>
              <p:nvPr/>
            </p:nvSpPr>
            <p:spPr>
              <a:xfrm>
                <a:off x="5495760" y="363384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 -  -  -     - -  -  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26"/>
            <p:cNvGrpSpPr/>
            <p:nvPr/>
          </p:nvGrpSpPr>
          <p:grpSpPr>
            <a:xfrm>
              <a:off x="1295280" y="1347480"/>
              <a:ext cx="2514600" cy="4114800"/>
              <a:chOff x="1295280" y="1347480"/>
              <a:chExt cx="2514600" cy="4114800"/>
            </a:xfrm>
          </p:grpSpPr>
          <p:sp>
            <p:nvSpPr>
              <p:cNvPr id="95" name="Rectangle 14"/>
              <p:cNvSpPr/>
              <p:nvPr/>
            </p:nvSpPr>
            <p:spPr>
              <a:xfrm flipV="1">
                <a:off x="1828800" y="3786120"/>
                <a:ext cx="38088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5"/>
              <p:cNvSpPr/>
              <p:nvPr/>
            </p:nvSpPr>
            <p:spPr>
              <a:xfrm flipV="1">
                <a:off x="1295280" y="4090320"/>
                <a:ext cx="144792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16"/>
              <p:cNvSpPr/>
              <p:nvPr/>
            </p:nvSpPr>
            <p:spPr>
              <a:xfrm flipV="1">
                <a:off x="1828800" y="2546280"/>
                <a:ext cx="380880" cy="1526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7"/>
              <p:cNvSpPr/>
              <p:nvPr/>
            </p:nvSpPr>
            <p:spPr>
              <a:xfrm flipV="1">
                <a:off x="1295280" y="2850480"/>
                <a:ext cx="144792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Group 18"/>
              <p:cNvGrpSpPr/>
              <p:nvPr/>
            </p:nvGrpSpPr>
            <p:grpSpPr>
              <a:xfrm>
                <a:off x="1295280" y="3176640"/>
                <a:ext cx="1447920" cy="457200"/>
                <a:chOff x="1295280" y="3176640"/>
                <a:chExt cx="1447920" cy="457200"/>
              </a:xfrm>
            </p:grpSpPr>
            <p:sp>
              <p:nvSpPr>
                <p:cNvPr id="100" name="Rectangle 19"/>
                <p:cNvSpPr/>
                <p:nvPr/>
              </p:nvSpPr>
              <p:spPr>
                <a:xfrm flipV="1">
                  <a:off x="1828800" y="3176280"/>
                  <a:ext cx="380880" cy="152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20"/>
                <p:cNvSpPr/>
                <p:nvPr/>
              </p:nvSpPr>
              <p:spPr>
                <a:xfrm flipV="1">
                  <a:off x="1295280" y="3481200"/>
                  <a:ext cx="1447920" cy="15264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Rectangle 21"/>
              <p:cNvSpPr/>
              <p:nvPr/>
            </p:nvSpPr>
            <p:spPr>
              <a:xfrm flipV="1">
                <a:off x="1981080" y="4243320"/>
                <a:ext cx="152280" cy="106704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22"/>
              <p:cNvSpPr/>
              <p:nvPr/>
            </p:nvSpPr>
            <p:spPr>
              <a:xfrm flipV="1">
                <a:off x="1981080" y="5309640"/>
                <a:ext cx="182880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23"/>
              <p:cNvSpPr/>
              <p:nvPr/>
            </p:nvSpPr>
            <p:spPr>
              <a:xfrm flipV="1">
                <a:off x="1981080" y="1346760"/>
                <a:ext cx="1828800" cy="15228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24"/>
              <p:cNvSpPr/>
              <p:nvPr/>
            </p:nvSpPr>
            <p:spPr>
              <a:xfrm flipV="1">
                <a:off x="1981080" y="1500120"/>
                <a:ext cx="152280" cy="10670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3124080" y="321840"/>
              <a:ext cx="2232000" cy="2166120"/>
              <a:chOff x="3124080" y="321840"/>
              <a:chExt cx="2232000" cy="2166120"/>
            </a:xfrm>
          </p:grpSpPr>
          <p:sp>
            <p:nvSpPr>
              <p:cNvPr id="107" name="Oval 70"/>
              <p:cNvSpPr/>
              <p:nvPr/>
            </p:nvSpPr>
            <p:spPr>
              <a:xfrm>
                <a:off x="3738240" y="925200"/>
                <a:ext cx="106704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71"/>
              <p:cNvGrpSpPr/>
              <p:nvPr/>
            </p:nvGrpSpPr>
            <p:grpSpPr>
              <a:xfrm>
                <a:off x="3357360" y="321840"/>
                <a:ext cx="1828800" cy="2132640"/>
                <a:chOff x="3357360" y="321840"/>
                <a:chExt cx="1828800" cy="2132640"/>
              </a:xfrm>
            </p:grpSpPr>
            <p:sp>
              <p:nvSpPr>
                <p:cNvPr id="109" name="Line 72"/>
                <p:cNvSpPr/>
                <p:nvPr/>
              </p:nvSpPr>
              <p:spPr>
                <a:xfrm>
                  <a:off x="4195800" y="321840"/>
                  <a:ext cx="0" cy="456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73"/>
                <p:cNvSpPr/>
                <p:nvPr/>
              </p:nvSpPr>
              <p:spPr>
                <a:xfrm>
                  <a:off x="3357360" y="550080"/>
                  <a:ext cx="38124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74"/>
                <p:cNvSpPr/>
                <p:nvPr/>
              </p:nvSpPr>
              <p:spPr>
                <a:xfrm flipH="1">
                  <a:off x="4728600" y="702360"/>
                  <a:ext cx="38124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75"/>
                <p:cNvSpPr/>
                <p:nvPr/>
              </p:nvSpPr>
              <p:spPr>
                <a:xfrm flipV="1">
                  <a:off x="4271760" y="1997640"/>
                  <a:ext cx="0" cy="456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76"/>
                <p:cNvSpPr/>
                <p:nvPr/>
              </p:nvSpPr>
              <p:spPr>
                <a:xfrm flipV="1">
                  <a:off x="3433680" y="1845360"/>
                  <a:ext cx="3808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77"/>
                <p:cNvSpPr/>
                <p:nvPr/>
              </p:nvSpPr>
              <p:spPr>
                <a:xfrm flipH="1" flipV="1">
                  <a:off x="4805280" y="1769040"/>
                  <a:ext cx="380880" cy="304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78"/>
              <p:cNvGrpSpPr/>
              <p:nvPr/>
            </p:nvGrpSpPr>
            <p:grpSpPr>
              <a:xfrm>
                <a:off x="3146400" y="1025280"/>
                <a:ext cx="2209680" cy="761400"/>
                <a:chOff x="3146400" y="1025280"/>
                <a:chExt cx="2209680" cy="761400"/>
              </a:xfrm>
            </p:grpSpPr>
            <p:sp>
              <p:nvSpPr>
                <p:cNvPr id="116" name="Line 79"/>
                <p:cNvSpPr/>
                <p:nvPr/>
              </p:nvSpPr>
              <p:spPr>
                <a:xfrm>
                  <a:off x="3146400" y="1025280"/>
                  <a:ext cx="4572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80"/>
                <p:cNvSpPr/>
                <p:nvPr/>
              </p:nvSpPr>
              <p:spPr>
                <a:xfrm>
                  <a:off x="4898880" y="1634400"/>
                  <a:ext cx="4572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81"/>
              <p:cNvGrpSpPr/>
              <p:nvPr/>
            </p:nvGrpSpPr>
            <p:grpSpPr>
              <a:xfrm>
                <a:off x="3124080" y="1066320"/>
                <a:ext cx="2209680" cy="761400"/>
                <a:chOff x="3124080" y="1066320"/>
                <a:chExt cx="2209680" cy="761400"/>
              </a:xfrm>
            </p:grpSpPr>
            <p:sp>
              <p:nvSpPr>
                <p:cNvPr id="119" name="Line 82"/>
                <p:cNvSpPr/>
                <p:nvPr/>
              </p:nvSpPr>
              <p:spPr>
                <a:xfrm flipH="1">
                  <a:off x="4876560" y="1066320"/>
                  <a:ext cx="4572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83"/>
                <p:cNvSpPr/>
                <p:nvPr/>
              </p:nvSpPr>
              <p:spPr>
                <a:xfrm flipH="1">
                  <a:off x="3124080" y="1675440"/>
                  <a:ext cx="4572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84"/>
              <p:cNvGrpSpPr/>
              <p:nvPr/>
            </p:nvGrpSpPr>
            <p:grpSpPr>
              <a:xfrm>
                <a:off x="3786840" y="349560"/>
                <a:ext cx="944280" cy="2138400"/>
                <a:chOff x="3786840" y="349560"/>
                <a:chExt cx="944280" cy="2138400"/>
              </a:xfrm>
            </p:grpSpPr>
            <p:sp>
              <p:nvSpPr>
                <p:cNvPr id="122" name="Line 85"/>
                <p:cNvSpPr/>
                <p:nvPr/>
              </p:nvSpPr>
              <p:spPr>
                <a:xfrm flipH="1">
                  <a:off x="4531680" y="349560"/>
                  <a:ext cx="19944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86"/>
                <p:cNvSpPr/>
                <p:nvPr/>
              </p:nvSpPr>
              <p:spPr>
                <a:xfrm flipH="1">
                  <a:off x="3786840" y="2049120"/>
                  <a:ext cx="19908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87"/>
              <p:cNvGrpSpPr/>
              <p:nvPr/>
            </p:nvGrpSpPr>
            <p:grpSpPr>
              <a:xfrm>
                <a:off x="3737160" y="365400"/>
                <a:ext cx="1116360" cy="2053440"/>
                <a:chOff x="3737160" y="365400"/>
                <a:chExt cx="1116360" cy="2053440"/>
              </a:xfrm>
            </p:grpSpPr>
            <p:sp>
              <p:nvSpPr>
                <p:cNvPr id="125" name="Line 88"/>
                <p:cNvSpPr/>
                <p:nvPr/>
              </p:nvSpPr>
              <p:spPr>
                <a:xfrm>
                  <a:off x="3737160" y="365400"/>
                  <a:ext cx="225360" cy="42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89"/>
                <p:cNvSpPr/>
                <p:nvPr/>
              </p:nvSpPr>
              <p:spPr>
                <a:xfrm>
                  <a:off x="4627800" y="1992960"/>
                  <a:ext cx="225720" cy="42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Oval 91"/>
            <p:cNvSpPr/>
            <p:nvPr/>
          </p:nvSpPr>
          <p:spPr>
            <a:xfrm>
              <a:off x="3814920" y="4888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92"/>
            <p:cNvGrpSpPr/>
            <p:nvPr/>
          </p:nvGrpSpPr>
          <p:grpSpPr>
            <a:xfrm>
              <a:off x="3505320" y="4343400"/>
              <a:ext cx="1751760" cy="2039400"/>
              <a:chOff x="3505320" y="4343400"/>
              <a:chExt cx="1751760" cy="2039400"/>
            </a:xfrm>
          </p:grpSpPr>
          <p:sp>
            <p:nvSpPr>
              <p:cNvPr id="129" name="Line 93"/>
              <p:cNvSpPr/>
              <p:nvPr/>
            </p:nvSpPr>
            <p:spPr>
              <a:xfrm>
                <a:off x="4308480" y="4343400"/>
                <a:ext cx="0" cy="437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4"/>
              <p:cNvSpPr/>
              <p:nvPr/>
            </p:nvSpPr>
            <p:spPr>
              <a:xfrm>
                <a:off x="3505320" y="4561920"/>
                <a:ext cx="36504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95"/>
              <p:cNvSpPr/>
              <p:nvPr/>
            </p:nvSpPr>
            <p:spPr>
              <a:xfrm flipH="1">
                <a:off x="4819680" y="4707360"/>
                <a:ext cx="365040" cy="29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96"/>
              <p:cNvSpPr/>
              <p:nvPr/>
            </p:nvSpPr>
            <p:spPr>
              <a:xfrm flipV="1">
                <a:off x="4381560" y="5945760"/>
                <a:ext cx="0" cy="437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97"/>
              <p:cNvSpPr/>
              <p:nvPr/>
            </p:nvSpPr>
            <p:spPr>
              <a:xfrm flipV="1">
                <a:off x="3578400" y="5799960"/>
                <a:ext cx="36468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8"/>
              <p:cNvSpPr/>
              <p:nvPr/>
            </p:nvSpPr>
            <p:spPr>
              <a:xfrm flipH="1" flipV="1">
                <a:off x="4892400" y="5727240"/>
                <a:ext cx="364680" cy="29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99"/>
            <p:cNvGrpSpPr/>
            <p:nvPr/>
          </p:nvGrpSpPr>
          <p:grpSpPr>
            <a:xfrm>
              <a:off x="3222720" y="4987800"/>
              <a:ext cx="2209680" cy="762120"/>
              <a:chOff x="3222720" y="4987800"/>
              <a:chExt cx="2209680" cy="762120"/>
            </a:xfrm>
          </p:grpSpPr>
          <p:sp>
            <p:nvSpPr>
              <p:cNvPr id="136" name="Line 100"/>
              <p:cNvSpPr/>
              <p:nvPr/>
            </p:nvSpPr>
            <p:spPr>
              <a:xfrm>
                <a:off x="3222720" y="49878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01"/>
              <p:cNvSpPr/>
              <p:nvPr/>
            </p:nvSpPr>
            <p:spPr>
              <a:xfrm>
                <a:off x="4975200" y="5597280"/>
                <a:ext cx="4572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02"/>
            <p:cNvGrpSpPr/>
            <p:nvPr/>
          </p:nvGrpSpPr>
          <p:grpSpPr>
            <a:xfrm>
              <a:off x="3200400" y="5029200"/>
              <a:ext cx="2209680" cy="762120"/>
              <a:chOff x="3200400" y="5029200"/>
              <a:chExt cx="2209680" cy="762120"/>
            </a:xfrm>
          </p:grpSpPr>
          <p:sp>
            <p:nvSpPr>
              <p:cNvPr id="139" name="Line 103"/>
              <p:cNvSpPr/>
              <p:nvPr/>
            </p:nvSpPr>
            <p:spPr>
              <a:xfrm flipH="1">
                <a:off x="4952880" y="50292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04"/>
              <p:cNvSpPr/>
              <p:nvPr/>
            </p:nvSpPr>
            <p:spPr>
              <a:xfrm flipH="1">
                <a:off x="3200400" y="5638680"/>
                <a:ext cx="4572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05"/>
            <p:cNvGrpSpPr/>
            <p:nvPr/>
          </p:nvGrpSpPr>
          <p:grpSpPr>
            <a:xfrm>
              <a:off x="3862080" y="4361040"/>
              <a:ext cx="898560" cy="2089080"/>
              <a:chOff x="3862080" y="4361040"/>
              <a:chExt cx="898560" cy="2089080"/>
            </a:xfrm>
          </p:grpSpPr>
          <p:sp>
            <p:nvSpPr>
              <p:cNvPr id="142" name="Line 106"/>
              <p:cNvSpPr/>
              <p:nvPr/>
            </p:nvSpPr>
            <p:spPr>
              <a:xfrm flipH="1">
                <a:off x="4570920" y="4361040"/>
                <a:ext cx="18972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07"/>
              <p:cNvSpPr/>
              <p:nvPr/>
            </p:nvSpPr>
            <p:spPr>
              <a:xfrm flipH="1">
                <a:off x="3862080" y="6021360"/>
                <a:ext cx="189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108"/>
            <p:cNvGrpSpPr/>
            <p:nvPr/>
          </p:nvGrpSpPr>
          <p:grpSpPr>
            <a:xfrm>
              <a:off x="3813480" y="4327920"/>
              <a:ext cx="1117080" cy="2053440"/>
              <a:chOff x="3813480" y="4327920"/>
              <a:chExt cx="1117080" cy="2053440"/>
            </a:xfrm>
          </p:grpSpPr>
          <p:sp>
            <p:nvSpPr>
              <p:cNvPr id="145" name="Line 109"/>
              <p:cNvSpPr/>
              <p:nvPr/>
            </p:nvSpPr>
            <p:spPr>
              <a:xfrm>
                <a:off x="3813480" y="4327920"/>
                <a:ext cx="225720" cy="4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10"/>
              <p:cNvSpPr/>
              <p:nvPr/>
            </p:nvSpPr>
            <p:spPr>
              <a:xfrm>
                <a:off x="4704480" y="5955480"/>
                <a:ext cx="226080" cy="4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93"/>
          <p:cNvGrpSpPr/>
          <p:nvPr/>
        </p:nvGrpSpPr>
        <p:grpSpPr>
          <a:xfrm>
            <a:off x="1295280" y="457200"/>
            <a:ext cx="6782040" cy="5978520"/>
            <a:chOff x="1295280" y="457200"/>
            <a:chExt cx="6782040" cy="5978520"/>
          </a:xfrm>
        </p:grpSpPr>
        <p:sp>
          <p:nvSpPr>
            <p:cNvPr id="148" name="Rectangle 5"/>
            <p:cNvSpPr/>
            <p:nvPr/>
          </p:nvSpPr>
          <p:spPr>
            <a:xfrm>
              <a:off x="5562720" y="3527280"/>
              <a:ext cx="213336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H="1">
              <a:off x="4876920" y="5356080"/>
              <a:ext cx="182880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H="1">
              <a:off x="6553080" y="3755880"/>
              <a:ext cx="152640" cy="1600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5562720" y="3222720"/>
              <a:ext cx="213336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 flipH="1">
              <a:off x="6553080" y="1546200"/>
              <a:ext cx="152640" cy="1676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 flipH="1">
              <a:off x="4724280" y="1393920"/>
              <a:ext cx="19814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5410080" y="2841480"/>
              <a:ext cx="25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        + +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5495760" y="3679920"/>
              <a:ext cx="25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 -        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 flipV="1">
              <a:off x="1828800" y="38314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 flipV="1">
              <a:off x="1295280" y="4136400"/>
              <a:ext cx="144792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 flipV="1">
              <a:off x="1828800" y="2591640"/>
              <a:ext cx="38088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 flipV="1">
              <a:off x="1295280" y="2896560"/>
              <a:ext cx="1447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20"/>
            <p:cNvGrpSpPr/>
            <p:nvPr/>
          </p:nvGrpSpPr>
          <p:grpSpPr>
            <a:xfrm>
              <a:off x="1295280" y="3222720"/>
              <a:ext cx="1447920" cy="457200"/>
              <a:chOff x="1295280" y="3222720"/>
              <a:chExt cx="1447920" cy="457200"/>
            </a:xfrm>
          </p:grpSpPr>
          <p:sp>
            <p:nvSpPr>
              <p:cNvPr id="161" name="Rectangle 21"/>
              <p:cNvSpPr/>
              <p:nvPr/>
            </p:nvSpPr>
            <p:spPr>
              <a:xfrm flipV="1">
                <a:off x="1828800" y="3222360"/>
                <a:ext cx="3808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22"/>
              <p:cNvSpPr/>
              <p:nvPr/>
            </p:nvSpPr>
            <p:spPr>
              <a:xfrm flipV="1">
                <a:off x="1295280" y="3527280"/>
                <a:ext cx="144792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Rectangle 23"/>
            <p:cNvSpPr/>
            <p:nvPr/>
          </p:nvSpPr>
          <p:spPr>
            <a:xfrm flipV="1">
              <a:off x="1981080" y="4288680"/>
              <a:ext cx="152640" cy="10666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 flipV="1">
              <a:off x="1981080" y="5356080"/>
              <a:ext cx="1828800" cy="1526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5"/>
            <p:cNvSpPr/>
            <p:nvPr/>
          </p:nvSpPr>
          <p:spPr>
            <a:xfrm flipV="1">
              <a:off x="1981080" y="1392840"/>
              <a:ext cx="182880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6"/>
            <p:cNvSpPr/>
            <p:nvPr/>
          </p:nvSpPr>
          <p:spPr>
            <a:xfrm flipV="1">
              <a:off x="1981080" y="1545480"/>
              <a:ext cx="152640" cy="10666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4344840" y="4302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68"/>
            <p:cNvSpPr/>
            <p:nvPr/>
          </p:nvSpPr>
          <p:spPr>
            <a:xfrm>
              <a:off x="3657600" y="44546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69"/>
            <p:cNvSpPr/>
            <p:nvPr/>
          </p:nvSpPr>
          <p:spPr>
            <a:xfrm flipH="1">
              <a:off x="4723920" y="45306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70"/>
            <p:cNvSpPr/>
            <p:nvPr/>
          </p:nvSpPr>
          <p:spPr>
            <a:xfrm flipV="1">
              <a:off x="4421160" y="5978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1"/>
            <p:cNvSpPr/>
            <p:nvPr/>
          </p:nvSpPr>
          <p:spPr>
            <a:xfrm flipV="1">
              <a:off x="3657600" y="5901840"/>
              <a:ext cx="3808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2"/>
            <p:cNvSpPr/>
            <p:nvPr/>
          </p:nvSpPr>
          <p:spPr>
            <a:xfrm flipH="1" flipV="1">
              <a:off x="4800600" y="5901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76"/>
            <p:cNvGrpSpPr/>
            <p:nvPr/>
          </p:nvGrpSpPr>
          <p:grpSpPr>
            <a:xfrm>
              <a:off x="3250800" y="4996440"/>
              <a:ext cx="2227680" cy="793440"/>
              <a:chOff x="3250800" y="4996440"/>
              <a:chExt cx="2227680" cy="793440"/>
            </a:xfrm>
          </p:grpSpPr>
          <p:sp>
            <p:nvSpPr>
              <p:cNvPr id="174" name="Line 73"/>
              <p:cNvSpPr/>
              <p:nvPr/>
            </p:nvSpPr>
            <p:spPr>
              <a:xfrm flipH="1">
                <a:off x="5000040" y="4996440"/>
                <a:ext cx="478440" cy="14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74"/>
              <p:cNvSpPr/>
              <p:nvPr/>
            </p:nvSpPr>
            <p:spPr>
              <a:xfrm flipV="1">
                <a:off x="3250800" y="5632560"/>
                <a:ext cx="51516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77"/>
            <p:cNvGrpSpPr/>
            <p:nvPr/>
          </p:nvGrpSpPr>
          <p:grpSpPr>
            <a:xfrm>
              <a:off x="3290760" y="4937760"/>
              <a:ext cx="2227680" cy="793440"/>
              <a:chOff x="3290760" y="4937760"/>
              <a:chExt cx="2227680" cy="793440"/>
            </a:xfrm>
          </p:grpSpPr>
          <p:sp>
            <p:nvSpPr>
              <p:cNvPr id="177" name="Line 78"/>
              <p:cNvSpPr/>
              <p:nvPr/>
            </p:nvSpPr>
            <p:spPr>
              <a:xfrm>
                <a:off x="3290760" y="4937760"/>
                <a:ext cx="478440" cy="14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79"/>
              <p:cNvSpPr/>
              <p:nvPr/>
            </p:nvSpPr>
            <p:spPr>
              <a:xfrm flipH="1" flipV="1">
                <a:off x="5003280" y="5573880"/>
                <a:ext cx="51516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Line 80"/>
            <p:cNvSpPr/>
            <p:nvPr/>
          </p:nvSpPr>
          <p:spPr>
            <a:xfrm>
              <a:off x="4268880" y="4572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1"/>
            <p:cNvSpPr/>
            <p:nvPr/>
          </p:nvSpPr>
          <p:spPr>
            <a:xfrm>
              <a:off x="3581280" y="60948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82"/>
            <p:cNvSpPr/>
            <p:nvPr/>
          </p:nvSpPr>
          <p:spPr>
            <a:xfrm flipH="1">
              <a:off x="4648320" y="6858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83"/>
            <p:cNvSpPr/>
            <p:nvPr/>
          </p:nvSpPr>
          <p:spPr>
            <a:xfrm flipV="1">
              <a:off x="4344840" y="2133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4"/>
            <p:cNvSpPr/>
            <p:nvPr/>
          </p:nvSpPr>
          <p:spPr>
            <a:xfrm flipV="1">
              <a:off x="3581280" y="20574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85"/>
            <p:cNvSpPr/>
            <p:nvPr/>
          </p:nvSpPr>
          <p:spPr>
            <a:xfrm flipH="1" flipV="1">
              <a:off x="4723920" y="205704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86"/>
            <p:cNvGrpSpPr/>
            <p:nvPr/>
          </p:nvGrpSpPr>
          <p:grpSpPr>
            <a:xfrm>
              <a:off x="3174840" y="1151280"/>
              <a:ext cx="2227320" cy="794520"/>
              <a:chOff x="3174840" y="1151280"/>
              <a:chExt cx="2227320" cy="794520"/>
            </a:xfrm>
          </p:grpSpPr>
          <p:sp>
            <p:nvSpPr>
              <p:cNvPr id="186" name="Line 87"/>
              <p:cNvSpPr/>
              <p:nvPr/>
            </p:nvSpPr>
            <p:spPr>
              <a:xfrm flipH="1">
                <a:off x="4924080" y="1151280"/>
                <a:ext cx="478080" cy="14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88"/>
              <p:cNvSpPr/>
              <p:nvPr/>
            </p:nvSpPr>
            <p:spPr>
              <a:xfrm flipV="1">
                <a:off x="3174840" y="1788120"/>
                <a:ext cx="514800" cy="15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89"/>
            <p:cNvGrpSpPr/>
            <p:nvPr/>
          </p:nvGrpSpPr>
          <p:grpSpPr>
            <a:xfrm>
              <a:off x="3214440" y="1092600"/>
              <a:ext cx="2227320" cy="794520"/>
              <a:chOff x="3214440" y="1092600"/>
              <a:chExt cx="2227320" cy="794520"/>
            </a:xfrm>
          </p:grpSpPr>
          <p:sp>
            <p:nvSpPr>
              <p:cNvPr id="189" name="Line 90"/>
              <p:cNvSpPr/>
              <p:nvPr/>
            </p:nvSpPr>
            <p:spPr>
              <a:xfrm>
                <a:off x="3214440" y="1092600"/>
                <a:ext cx="478080" cy="14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91"/>
              <p:cNvSpPr/>
              <p:nvPr/>
            </p:nvSpPr>
            <p:spPr>
              <a:xfrm flipH="1" flipV="1">
                <a:off x="4926960" y="1729440"/>
                <a:ext cx="514800" cy="15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Oval 92"/>
            <p:cNvSpPr/>
            <p:nvPr/>
          </p:nvSpPr>
          <p:spPr>
            <a:xfrm>
              <a:off x="3792600" y="491796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3"/>
            <p:cNvSpPr/>
            <p:nvPr/>
          </p:nvSpPr>
          <p:spPr>
            <a:xfrm>
              <a:off x="3733920" y="990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562720" y="3481560"/>
            <a:ext cx="21333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 flipH="1">
            <a:off x="4876920" y="5310360"/>
            <a:ext cx="1828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 flipH="1">
            <a:off x="6553080" y="3710160"/>
            <a:ext cx="1526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562720" y="3176640"/>
            <a:ext cx="21333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 flipH="1">
            <a:off x="6553080" y="1500120"/>
            <a:ext cx="15264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 flipH="1">
            <a:off x="4724280" y="1347840"/>
            <a:ext cx="19814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 flipV="1">
            <a:off x="1828800" y="378612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 flipV="1">
            <a:off x="1295280" y="4090320"/>
            <a:ext cx="144792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 flipV="1">
            <a:off x="1828800" y="2546280"/>
            <a:ext cx="3808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 flipV="1">
            <a:off x="1295280" y="285048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1295280" y="3176640"/>
            <a:ext cx="1447920" cy="457200"/>
            <a:chOff x="1295280" y="3176640"/>
            <a:chExt cx="1447920" cy="457200"/>
          </a:xfrm>
        </p:grpSpPr>
        <p:sp>
          <p:nvSpPr>
            <p:cNvPr id="204" name="Rectangle 17"/>
            <p:cNvSpPr/>
            <p:nvPr/>
          </p:nvSpPr>
          <p:spPr>
            <a:xfrm flipV="1">
              <a:off x="1828800" y="31762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 flipV="1">
              <a:off x="1295280" y="348120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9"/>
          <p:cNvSpPr/>
          <p:nvPr/>
        </p:nvSpPr>
        <p:spPr>
          <a:xfrm flipV="1">
            <a:off x="1981080" y="424332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0"/>
          <p:cNvSpPr/>
          <p:nvPr/>
        </p:nvSpPr>
        <p:spPr>
          <a:xfrm flipV="1">
            <a:off x="1981080" y="530964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 flipV="1">
            <a:off x="1981080" y="1346760"/>
            <a:ext cx="182880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2"/>
          <p:cNvSpPr/>
          <p:nvPr/>
        </p:nvSpPr>
        <p:spPr>
          <a:xfrm flipV="1">
            <a:off x="1981080" y="1500120"/>
            <a:ext cx="15264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77"/>
          <p:cNvGrpSpPr/>
          <p:nvPr/>
        </p:nvGrpSpPr>
        <p:grpSpPr>
          <a:xfrm>
            <a:off x="3429000" y="4267080"/>
            <a:ext cx="1828800" cy="2133720"/>
            <a:chOff x="3429000" y="4267080"/>
            <a:chExt cx="1828800" cy="2133720"/>
          </a:xfrm>
        </p:grpSpPr>
        <p:sp>
          <p:nvSpPr>
            <p:cNvPr id="211" name="Oval 3"/>
            <p:cNvSpPr/>
            <p:nvPr/>
          </p:nvSpPr>
          <p:spPr>
            <a:xfrm>
              <a:off x="3809880" y="4870440"/>
              <a:ext cx="1067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34"/>
            <p:cNvGrpSpPr/>
            <p:nvPr/>
          </p:nvGrpSpPr>
          <p:grpSpPr>
            <a:xfrm>
              <a:off x="3429000" y="4267080"/>
              <a:ext cx="1828800" cy="2133720"/>
              <a:chOff x="3429000" y="4267080"/>
              <a:chExt cx="1828800" cy="2133720"/>
            </a:xfrm>
          </p:grpSpPr>
          <p:sp>
            <p:nvSpPr>
              <p:cNvPr id="213" name="Line 35"/>
              <p:cNvSpPr/>
              <p:nvPr/>
            </p:nvSpPr>
            <p:spPr>
              <a:xfrm>
                <a:off x="426744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3429000" y="4495680"/>
                <a:ext cx="381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 flipH="1">
                <a:off x="4800240" y="464796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38"/>
              <p:cNvSpPr/>
              <p:nvPr/>
            </p:nvSpPr>
            <p:spPr>
              <a:xfrm flipV="1">
                <a:off x="4343400" y="59436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39"/>
              <p:cNvSpPr/>
              <p:nvPr/>
            </p:nvSpPr>
            <p:spPr>
              <a:xfrm flipV="1">
                <a:off x="3505320" y="579060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H="1" flipV="1">
                <a:off x="4876920" y="571500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78"/>
          <p:cNvGrpSpPr/>
          <p:nvPr/>
        </p:nvGrpSpPr>
        <p:grpSpPr>
          <a:xfrm>
            <a:off x="3370320" y="363600"/>
            <a:ext cx="1828800" cy="2132640"/>
            <a:chOff x="3370320" y="363600"/>
            <a:chExt cx="1828800" cy="2132640"/>
          </a:xfrm>
        </p:grpSpPr>
        <p:sp>
          <p:nvSpPr>
            <p:cNvPr id="220" name="Oval 79"/>
            <p:cNvSpPr/>
            <p:nvPr/>
          </p:nvSpPr>
          <p:spPr>
            <a:xfrm>
              <a:off x="3751200" y="966600"/>
              <a:ext cx="106704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Group 80"/>
            <p:cNvGrpSpPr/>
            <p:nvPr/>
          </p:nvGrpSpPr>
          <p:grpSpPr>
            <a:xfrm>
              <a:off x="3370320" y="363600"/>
              <a:ext cx="1828800" cy="2132640"/>
              <a:chOff x="3370320" y="363600"/>
              <a:chExt cx="1828800" cy="2132640"/>
            </a:xfrm>
          </p:grpSpPr>
          <p:sp>
            <p:nvSpPr>
              <p:cNvPr id="222" name="Line 81"/>
              <p:cNvSpPr/>
              <p:nvPr/>
            </p:nvSpPr>
            <p:spPr>
              <a:xfrm>
                <a:off x="4208760" y="363600"/>
                <a:ext cx="0" cy="45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82"/>
              <p:cNvSpPr/>
              <p:nvPr/>
            </p:nvSpPr>
            <p:spPr>
              <a:xfrm>
                <a:off x="3370320" y="591840"/>
                <a:ext cx="38124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83"/>
              <p:cNvSpPr/>
              <p:nvPr/>
            </p:nvSpPr>
            <p:spPr>
              <a:xfrm flipH="1">
                <a:off x="4741560" y="7441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84"/>
              <p:cNvSpPr/>
              <p:nvPr/>
            </p:nvSpPr>
            <p:spPr>
              <a:xfrm flipV="1">
                <a:off x="4284720" y="2039400"/>
                <a:ext cx="0" cy="45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85"/>
              <p:cNvSpPr/>
              <p:nvPr/>
            </p:nvSpPr>
            <p:spPr>
              <a:xfrm flipV="1">
                <a:off x="3446640" y="18871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86"/>
              <p:cNvSpPr/>
              <p:nvPr/>
            </p:nvSpPr>
            <p:spPr>
              <a:xfrm flipH="1" flipV="1">
                <a:off x="4818240" y="1810800"/>
                <a:ext cx="38088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4"/>
          <p:cNvGrpSpPr/>
          <p:nvPr/>
        </p:nvGrpSpPr>
        <p:grpSpPr>
          <a:xfrm>
            <a:off x="1295280" y="609480"/>
            <a:ext cx="6400800" cy="5562720"/>
            <a:chOff x="1295280" y="609480"/>
            <a:chExt cx="6400800" cy="5562720"/>
          </a:xfrm>
        </p:grpSpPr>
        <p:sp>
          <p:nvSpPr>
            <p:cNvPr id="229" name="Rectangle 2"/>
            <p:cNvSpPr/>
            <p:nvPr/>
          </p:nvSpPr>
          <p:spPr>
            <a:xfrm>
              <a:off x="5562720" y="3481560"/>
              <a:ext cx="213336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"/>
            <p:cNvSpPr/>
            <p:nvPr/>
          </p:nvSpPr>
          <p:spPr>
            <a:xfrm flipH="1">
              <a:off x="4876920" y="5334120"/>
              <a:ext cx="1828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 flipH="1">
              <a:off x="6553080" y="3710160"/>
              <a:ext cx="152640" cy="160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5562720" y="317664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flipH="1">
              <a:off x="6553080" y="1500120"/>
              <a:ext cx="152640" cy="167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 flipH="1">
              <a:off x="4724280" y="1347840"/>
              <a:ext cx="19814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 flipV="1">
              <a:off x="1828800" y="3786120"/>
              <a:ext cx="3808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 flipV="1">
              <a:off x="1295280" y="4090320"/>
              <a:ext cx="144792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 flipV="1">
              <a:off x="1828800" y="2546280"/>
              <a:ext cx="380880" cy="1526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 flipV="1">
              <a:off x="1295280" y="2850480"/>
              <a:ext cx="1447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12"/>
            <p:cNvGrpSpPr/>
            <p:nvPr/>
          </p:nvGrpSpPr>
          <p:grpSpPr>
            <a:xfrm>
              <a:off x="1295280" y="3176640"/>
              <a:ext cx="1447920" cy="457200"/>
              <a:chOff x="1295280" y="3176640"/>
              <a:chExt cx="1447920" cy="457200"/>
            </a:xfrm>
          </p:grpSpPr>
          <p:sp>
            <p:nvSpPr>
              <p:cNvPr id="240" name="Rectangle 13"/>
              <p:cNvSpPr/>
              <p:nvPr/>
            </p:nvSpPr>
            <p:spPr>
              <a:xfrm flipV="1">
                <a:off x="1828800" y="3176280"/>
                <a:ext cx="3808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14"/>
              <p:cNvSpPr/>
              <p:nvPr/>
            </p:nvSpPr>
            <p:spPr>
              <a:xfrm flipV="1">
                <a:off x="1295280" y="3481200"/>
                <a:ext cx="144792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Rectangle 15"/>
            <p:cNvSpPr/>
            <p:nvPr/>
          </p:nvSpPr>
          <p:spPr>
            <a:xfrm flipV="1">
              <a:off x="1981080" y="4243320"/>
              <a:ext cx="15264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 flipV="1">
              <a:off x="1981080" y="530964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 flipV="1">
              <a:off x="1981080" y="1346760"/>
              <a:ext cx="182880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 flipV="1">
              <a:off x="1981080" y="1500120"/>
              <a:ext cx="15264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37"/>
            <p:cNvGrpSpPr/>
            <p:nvPr/>
          </p:nvGrpSpPr>
          <p:grpSpPr>
            <a:xfrm>
              <a:off x="3481560" y="4513320"/>
              <a:ext cx="1811160" cy="1658880"/>
              <a:chOff x="3481560" y="4513320"/>
              <a:chExt cx="1811160" cy="1658880"/>
            </a:xfrm>
          </p:grpSpPr>
          <p:sp>
            <p:nvSpPr>
              <p:cNvPr id="247" name="Oval 20"/>
              <p:cNvSpPr/>
              <p:nvPr/>
            </p:nvSpPr>
            <p:spPr>
              <a:xfrm>
                <a:off x="3809880" y="4870440"/>
                <a:ext cx="106704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>
                <a:off x="3481560" y="45133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H="1">
                <a:off x="4835520" y="464832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26"/>
              <p:cNvSpPr/>
              <p:nvPr/>
            </p:nvSpPr>
            <p:spPr>
              <a:xfrm flipV="1">
                <a:off x="3540240" y="57913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27"/>
              <p:cNvSpPr/>
              <p:nvPr/>
            </p:nvSpPr>
            <p:spPr>
              <a:xfrm flipH="1" flipV="1">
                <a:off x="4911840" y="571464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3411360" y="609480"/>
              <a:ext cx="1811160" cy="1658880"/>
              <a:chOff x="3411360" y="609480"/>
              <a:chExt cx="1811160" cy="1658880"/>
            </a:xfrm>
          </p:grpSpPr>
          <p:sp>
            <p:nvSpPr>
              <p:cNvPr id="253" name="Oval 39"/>
              <p:cNvSpPr/>
              <p:nvPr/>
            </p:nvSpPr>
            <p:spPr>
              <a:xfrm>
                <a:off x="3739680" y="966600"/>
                <a:ext cx="1067040" cy="9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3411360" y="60948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41"/>
              <p:cNvSpPr/>
              <p:nvPr/>
            </p:nvSpPr>
            <p:spPr>
              <a:xfrm flipH="1">
                <a:off x="4765320" y="74448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42"/>
              <p:cNvSpPr/>
              <p:nvPr/>
            </p:nvSpPr>
            <p:spPr>
              <a:xfrm flipV="1">
                <a:off x="3470040" y="188748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 flipH="1" flipV="1">
                <a:off x="4841640" y="181080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Text Box 45"/>
          <p:cNvSpPr/>
          <p:nvPr/>
        </p:nvSpPr>
        <p:spPr>
          <a:xfrm>
            <a:off x="57913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+      +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5802480" y="2590920"/>
            <a:ext cx="204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 _    _ 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5562720" y="3481560"/>
            <a:ext cx="21333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 flipH="1">
            <a:off x="4876920" y="5334120"/>
            <a:ext cx="18288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 flipH="1">
            <a:off x="6553080" y="3710160"/>
            <a:ext cx="15264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562720" y="3176640"/>
            <a:ext cx="21333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 flipH="1">
            <a:off x="6553080" y="1500120"/>
            <a:ext cx="15264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flipH="1">
            <a:off x="4724280" y="1347840"/>
            <a:ext cx="1981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 flipV="1">
            <a:off x="1828800" y="378612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 flipV="1">
            <a:off x="1295280" y="4090320"/>
            <a:ext cx="1447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 flipV="1">
            <a:off x="1828800" y="2570040"/>
            <a:ext cx="3808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 flipV="1">
            <a:off x="1295280" y="285048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12"/>
          <p:cNvGrpSpPr/>
          <p:nvPr/>
        </p:nvGrpSpPr>
        <p:grpSpPr>
          <a:xfrm>
            <a:off x="1295280" y="3176640"/>
            <a:ext cx="1447920" cy="457200"/>
            <a:chOff x="1295280" y="3176640"/>
            <a:chExt cx="1447920" cy="457200"/>
          </a:xfrm>
        </p:grpSpPr>
        <p:sp>
          <p:nvSpPr>
            <p:cNvPr id="271" name="Rectangle 13"/>
            <p:cNvSpPr/>
            <p:nvPr/>
          </p:nvSpPr>
          <p:spPr>
            <a:xfrm flipV="1">
              <a:off x="1828800" y="31762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 flipV="1">
              <a:off x="1295280" y="348120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15"/>
          <p:cNvSpPr/>
          <p:nvPr/>
        </p:nvSpPr>
        <p:spPr>
          <a:xfrm flipV="1">
            <a:off x="1981080" y="4243320"/>
            <a:ext cx="15264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6"/>
          <p:cNvSpPr/>
          <p:nvPr/>
        </p:nvSpPr>
        <p:spPr>
          <a:xfrm flipV="1">
            <a:off x="1981080" y="5309640"/>
            <a:ext cx="18288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7"/>
          <p:cNvSpPr/>
          <p:nvPr/>
        </p:nvSpPr>
        <p:spPr>
          <a:xfrm flipV="1">
            <a:off x="1981080" y="1370520"/>
            <a:ext cx="18288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 flipV="1">
            <a:off x="1981080" y="1523880"/>
            <a:ext cx="1526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3809880" y="487044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3733920" y="914400"/>
            <a:ext cx="10666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545148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+ + +     + + +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3"/>
          <p:cNvSpPr/>
          <p:nvPr/>
        </p:nvSpPr>
        <p:spPr>
          <a:xfrm>
            <a:off x="5345280" y="259092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 _ _ _   _ _ _ 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45:33Z</dcterms:created>
  <dc:creator>New Trier</dc:creator>
  <dc:description/>
  <dc:language>en-US</dc:language>
  <cp:lastModifiedBy>Einstein</cp:lastModifiedBy>
  <dcterms:modified xsi:type="dcterms:W3CDTF">2014-06-11T20:05:51Z</dcterms:modified>
  <cp:revision>10</cp:revision>
  <dc:subject/>
  <dc:title>What would happen if:</dc:title>
</cp:coreProperties>
</file>